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ra" descr=""/>
          <p:cNvPicPr/>
          <p:nvPr/>
        </p:nvPicPr>
        <p:blipFill>
          <a:blip r:embed="rId2"/>
          <a:stretch/>
        </p:blipFill>
        <p:spPr>
          <a:xfrm>
            <a:off x="0" y="0"/>
            <a:ext cx="531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barra" descr=""/>
          <p:cNvPicPr/>
          <p:nvPr/>
        </p:nvPicPr>
        <p:blipFill>
          <a:blip r:embed="rId3"/>
          <a:stretch/>
        </p:blipFill>
        <p:spPr>
          <a:xfrm>
            <a:off x="8612280" y="0"/>
            <a:ext cx="531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39680" y="251460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9999"/>
                </a:solidFill>
                <a:latin typeface="Arial"/>
              </a:rPr>
              <a:t>CLASSN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23960" y="4464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Solución Tecnológica Para Entrenamiento Corporativo y Edu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79480" y="556092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Segmentos de Mercado/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logo%20big" descr=""/>
          <p:cNvPicPr/>
          <p:nvPr/>
        </p:nvPicPr>
        <p:blipFill>
          <a:blip r:embed="rId1"/>
          <a:stretch/>
        </p:blipFill>
        <p:spPr>
          <a:xfrm>
            <a:off x="2705040" y="609480"/>
            <a:ext cx="3733920" cy="1811520"/>
          </a:xfrm>
          <a:prstGeom prst="rect">
            <a:avLst/>
          </a:prstGeom>
          <a:ln w="0">
            <a:noFill/>
          </a:ln>
        </p:spPr>
      </p:pic>
      <p:pic>
        <p:nvPicPr>
          <p:cNvPr id="42" name="caja" descr=""/>
          <p:cNvPicPr/>
          <p:nvPr/>
        </p:nvPicPr>
        <p:blipFill>
          <a:blip r:embed="rId2"/>
          <a:stretch/>
        </p:blipFill>
        <p:spPr>
          <a:xfrm>
            <a:off x="3454560" y="3295800"/>
            <a:ext cx="2234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12952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14479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09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3) Proyecto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38160"/>
            <a:ext cx="7315200" cy="40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s-MX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Tipos de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Grandes Estudios de Profesionales (Abogados,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Contadores, Arquitectos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Hos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Juzgados (Jueces y Dactilógraf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Salas computarizadas de Video Confe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14300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129528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33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RESUMEN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752480"/>
            <a:ext cx="792468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CLASSNE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mejora la calidad d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CLASSNE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aumenta el rendimiento de l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sala de infor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CLASSNE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aumenta la eficiencia de l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labor del Instructor/Supervisor con s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Adiestrados/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2480" y="37339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99"/>
                </a:solidFill>
                <a:latin typeface="Arial"/>
              </a:rPr>
              <a:t>Agradecemos vuestr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2040" y="51055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333399"/>
                </a:solidFill>
                <a:latin typeface="Arial"/>
              </a:rPr>
              <a:t>www.itpsof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ogo%20big" descr=""/>
          <p:cNvPicPr/>
          <p:nvPr/>
        </p:nvPicPr>
        <p:blipFill>
          <a:blip r:embed="rId1"/>
          <a:stretch/>
        </p:blipFill>
        <p:spPr>
          <a:xfrm>
            <a:off x="2400480" y="1143000"/>
            <a:ext cx="43434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37160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lbertus Medium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66680" y="152280"/>
            <a:ext cx="7315200" cy="1144800"/>
            <a:chOff x="1066680" y="152280"/>
            <a:chExt cx="7315200" cy="1144800"/>
          </a:xfrm>
        </p:grpSpPr>
        <p:pic>
          <p:nvPicPr>
            <p:cNvPr id="45" name="backg101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classnet%20text" descr=""/>
            <p:cNvPicPr/>
            <p:nvPr/>
          </p:nvPicPr>
          <p:blipFill>
            <a:blip r:embed="rId2"/>
            <a:stretch/>
          </p:blipFill>
          <p:spPr>
            <a:xfrm>
              <a:off x="2895480" y="533520"/>
              <a:ext cx="299412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logo%20small" descr=""/>
            <p:cNvPicPr/>
            <p:nvPr/>
          </p:nvPicPr>
          <p:blipFill>
            <a:blip r:embed="rId3"/>
            <a:stretch/>
          </p:blipFill>
          <p:spPr>
            <a:xfrm>
              <a:off x="7391520" y="152280"/>
              <a:ext cx="990360" cy="47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aula" descr=""/>
          <p:cNvPicPr/>
          <p:nvPr/>
        </p:nvPicPr>
        <p:blipFill>
          <a:blip r:embed="rId4"/>
          <a:stretch/>
        </p:blipFill>
        <p:spPr>
          <a:xfrm>
            <a:off x="1484280" y="1731960"/>
            <a:ext cx="617400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37160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371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9999"/>
                </a:solidFill>
                <a:latin typeface="Arial"/>
              </a:rPr>
              <a:t>Sistemas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057400"/>
            <a:ext cx="4724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señanza individual y de grupo m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 eficaz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aprender, 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utiliza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505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O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oporte integral de 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35560" y="32767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3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05920" y="504360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Quat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33840" y="6192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Board  y 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6760" y="609588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6680" y="152280"/>
            <a:ext cx="7315200" cy="1144800"/>
            <a:chOff x="1066680" y="152280"/>
            <a:chExt cx="7315200" cy="1144800"/>
          </a:xfrm>
        </p:grpSpPr>
        <p:pic>
          <p:nvPicPr>
            <p:cNvPr id="60" name="backg101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classnet%20text" descr=""/>
            <p:cNvPicPr/>
            <p:nvPr/>
          </p:nvPicPr>
          <p:blipFill>
            <a:blip r:embed="rId2"/>
            <a:stretch/>
          </p:blipFill>
          <p:spPr>
            <a:xfrm>
              <a:off x="2895480" y="533520"/>
              <a:ext cx="299412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logo%20small" descr=""/>
            <p:cNvPicPr/>
            <p:nvPr/>
          </p:nvPicPr>
          <p:blipFill>
            <a:blip r:embed="rId3"/>
            <a:stretch/>
          </p:blipFill>
          <p:spPr>
            <a:xfrm>
              <a:off x="7391520" y="152280"/>
              <a:ext cx="990360" cy="47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caja" descr=""/>
          <p:cNvPicPr/>
          <p:nvPr/>
        </p:nvPicPr>
        <p:blipFill>
          <a:blip r:embed="rId4"/>
          <a:stretch/>
        </p:blipFill>
        <p:spPr>
          <a:xfrm>
            <a:off x="5715000" y="2260440"/>
            <a:ext cx="2362320" cy="1016280"/>
          </a:xfrm>
          <a:prstGeom prst="rect">
            <a:avLst/>
          </a:prstGeom>
          <a:ln w="0">
            <a:noFill/>
          </a:ln>
        </p:spPr>
      </p:pic>
      <p:pic>
        <p:nvPicPr>
          <p:cNvPr id="66" name="quattro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1962360" cy="893880"/>
          </a:xfrm>
          <a:prstGeom prst="rect">
            <a:avLst/>
          </a:prstGeom>
          <a:ln w="0">
            <a:noFill/>
          </a:ln>
        </p:spPr>
      </p:pic>
      <p:pic>
        <p:nvPicPr>
          <p:cNvPr id="67" name="board" descr=""/>
          <p:cNvPicPr/>
          <p:nvPr/>
        </p:nvPicPr>
        <p:blipFill>
          <a:blip r:embed="rId6"/>
          <a:stretch/>
        </p:blipFill>
        <p:spPr>
          <a:xfrm>
            <a:off x="4400640" y="4805280"/>
            <a:ext cx="1942920" cy="1255680"/>
          </a:xfrm>
          <a:prstGeom prst="rect">
            <a:avLst/>
          </a:prstGeom>
          <a:ln w="0">
            <a:noFill/>
          </a:ln>
        </p:spPr>
      </p:pic>
      <p:pic>
        <p:nvPicPr>
          <p:cNvPr id="68" name="aristo" descr=""/>
          <p:cNvPicPr/>
          <p:nvPr/>
        </p:nvPicPr>
        <p:blipFill>
          <a:blip r:embed="rId7"/>
          <a:stretch/>
        </p:blipFill>
        <p:spPr>
          <a:xfrm>
            <a:off x="914400" y="5181480"/>
            <a:ext cx="2720880" cy="7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676520"/>
            <a:ext cx="73911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Controla la conectividad de pantalla 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teclado – ra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Monitorea</a:t>
            </a:r>
            <a:r>
              <a:rPr b="1" lang="en-US" sz="2400" spc="-1" strike="noStrike">
                <a:solidFill>
                  <a:srgbClr val="c84ac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cad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Supervisa  el trabajo de cad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Interactividad ON-LINE con cad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Formación d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Grup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Aprovechamiento de la tecnología Audiovisual – Video Confer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152280"/>
            <a:ext cx="7315200" cy="1144800"/>
            <a:chOff x="1066680" y="152280"/>
            <a:chExt cx="7315200" cy="1144800"/>
          </a:xfrm>
        </p:grpSpPr>
        <p:pic>
          <p:nvPicPr>
            <p:cNvPr id="71" name="backg101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classnet%20text" descr=""/>
            <p:cNvPicPr/>
            <p:nvPr/>
          </p:nvPicPr>
          <p:blipFill>
            <a:blip r:embed="rId2"/>
            <a:stretch/>
          </p:blipFill>
          <p:spPr>
            <a:xfrm>
              <a:off x="2895480" y="533520"/>
              <a:ext cx="299412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logo%20small" descr=""/>
            <p:cNvPicPr/>
            <p:nvPr/>
          </p:nvPicPr>
          <p:blipFill>
            <a:blip r:embed="rId3"/>
            <a:stretch/>
          </p:blipFill>
          <p:spPr>
            <a:xfrm>
              <a:off x="7391520" y="152280"/>
              <a:ext cx="99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0666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19520" y="12193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160" y="533520"/>
            <a:ext cx="702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Empresas usuarias de CLASSNET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676520"/>
            <a:ext cx="73152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Servicios a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2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apacitación – Recursos Humanos – Educació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Proyecto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914400" y="228600"/>
            <a:ext cx="258840" cy="590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4572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990720"/>
            <a:ext cx="976320" cy="33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11430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0440" y="53352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1)  Servicios a Client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38080" y="1600200"/>
          <a:ext cx="7543440" cy="4802040"/>
        </p:xfrm>
        <a:graphic>
          <a:graphicData uri="http://schemas.openxmlformats.org/drawingml/2006/table">
            <a:tbl>
              <a:tblPr/>
              <a:tblGrid>
                <a:gridCol w="7543440"/>
              </a:tblGrid>
              <a:tr h="48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Tipos de Empre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ll C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le - 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ntro de operaciones de Policías / Bomberos /Ambulan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sultas de Clientes (serv de Hot-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os, Grandes Almacenes, Telefónicas, Celulares, Compañías de Transporte, etc</a:t>
                      </a:r>
                      <a:r>
                        <a:rPr b="0" lang="es-MX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914400" y="228600"/>
            <a:ext cx="258840" cy="59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4572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990720"/>
            <a:ext cx="976320" cy="338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8120" y="11430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41160" y="533520"/>
            <a:ext cx="41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1) Servicios a Client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66680" y="1600200"/>
          <a:ext cx="7239240" cy="465624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46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Aplic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upervisor(a) monitorea trabajo de cada operador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upervisor(a) controla calidad y cantidad de trabajo de cada operador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808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teractividad entre Supervisor(a) y Oper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12952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4479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2) Capacitación - Recursos Humanos –Educ. 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2489040"/>
            <a:ext cx="73152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Capacitación de empleados  “In House” o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“Outsourc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Escuelas de informá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Fuerzas Armadas – Escuelas de Entrena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Reclutamiento de Pers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Escuelas de aprendizaje de Idiomas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5760" y="1752480"/>
            <a:ext cx="35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8080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12952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14479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57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2) Capacitación - Recursos Humanos –Educ. 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38160"/>
            <a:ext cx="73152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s-MX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Control de la Calidad del Aprendizaj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Monitoreo del Trabajo de Capacitación y/o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nseñanz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l Instructor supervisa el trabajo de cada P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l Instructor interactúa con y entre diferentes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usuari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2:28:47Z</dcterms:created>
  <dc:creator>Lizzie Cynovich</dc:creator>
  <dc:description/>
  <dc:language>en-US</dc:language>
  <cp:lastModifiedBy>Registered User</cp:lastModifiedBy>
  <dcterms:modified xsi:type="dcterms:W3CDTF">2001-08-31T03:20:42Z</dcterms:modified>
  <cp:revision>183</cp:revision>
  <dc:subject/>
  <dc:title>Perfil de ITP</dc:title>
</cp:coreProperties>
</file>