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ra" descr=""/>
          <p:cNvPicPr/>
          <p:nvPr/>
        </p:nvPicPr>
        <p:blipFill>
          <a:blip r:embed="rId2"/>
          <a:stretch/>
        </p:blipFill>
        <p:spPr>
          <a:xfrm>
            <a:off x="0" y="0"/>
            <a:ext cx="531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barra" descr=""/>
          <p:cNvPicPr/>
          <p:nvPr/>
        </p:nvPicPr>
        <p:blipFill>
          <a:blip r:embed="rId3"/>
          <a:stretch/>
        </p:blipFill>
        <p:spPr>
          <a:xfrm>
            <a:off x="8612280" y="0"/>
            <a:ext cx="531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975040" y="3017880"/>
            <a:ext cx="31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9999"/>
                </a:solidFill>
                <a:latin typeface="Arial"/>
              </a:rPr>
              <a:t>CLASS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2396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Solución Tecnológica Para Entrenamiento Corporativo Y Edu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logo%20big" descr=""/>
          <p:cNvPicPr/>
          <p:nvPr/>
        </p:nvPicPr>
        <p:blipFill>
          <a:blip r:embed="rId1"/>
          <a:stretch/>
        </p:blipFill>
        <p:spPr>
          <a:xfrm>
            <a:off x="2362320" y="579600"/>
            <a:ext cx="4419360" cy="2143080"/>
          </a:xfrm>
          <a:prstGeom prst="rect">
            <a:avLst/>
          </a:prstGeom>
          <a:ln w="0">
            <a:noFill/>
          </a:ln>
        </p:spPr>
      </p:pic>
      <p:pic>
        <p:nvPicPr>
          <p:cNvPr id="41" name="caja" descr=""/>
          <p:cNvPicPr/>
          <p:nvPr/>
        </p:nvPicPr>
        <p:blipFill>
          <a:blip r:embed="rId2"/>
          <a:stretch/>
        </p:blipFill>
        <p:spPr>
          <a:xfrm>
            <a:off x="3494160" y="4084560"/>
            <a:ext cx="2157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676520" y="152280"/>
            <a:ext cx="258480" cy="590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380880"/>
            <a:ext cx="566244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400800" y="99072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90920" y="11430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2720" y="5335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99"/>
                </a:solidFill>
                <a:latin typeface="Arial"/>
              </a:rPr>
              <a:t>Componente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523880"/>
            <a:ext cx="586764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Unidad de control del Profesor (TCU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Consiste en un panel de presentación funcional y un cómodo teclado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Unidad de interfase de 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Ubicada junto al ordenador del Profesor o dentro del mismo (Versión Board). Conecta el ordenador del Profesor al sitema Class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Unidad de interfase de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Ud. tiene la posibilidad de seleccionar uno de los siguientes modelos: Caja, Tarjeta interior o QUATTRO-1 (¡una caja para 4 estudiante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cu" descr=""/>
          <p:cNvPicPr/>
          <p:nvPr/>
        </p:nvPicPr>
        <p:blipFill>
          <a:blip r:embed="rId3"/>
          <a:stretch/>
        </p:blipFill>
        <p:spPr>
          <a:xfrm>
            <a:off x="7010280" y="1523880"/>
            <a:ext cx="1447920" cy="879480"/>
          </a:xfrm>
          <a:prstGeom prst="rect">
            <a:avLst/>
          </a:prstGeom>
          <a:ln w="0">
            <a:noFill/>
          </a:ln>
        </p:spPr>
      </p:pic>
      <p:pic>
        <p:nvPicPr>
          <p:cNvPr id="118" name="caja%20teacher" descr=""/>
          <p:cNvPicPr/>
          <p:nvPr/>
        </p:nvPicPr>
        <p:blipFill>
          <a:blip r:embed="rId4"/>
          <a:stretch/>
        </p:blipFill>
        <p:spPr>
          <a:xfrm>
            <a:off x="7162920" y="284940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tarjeta" descr=""/>
          <p:cNvPicPr/>
          <p:nvPr/>
        </p:nvPicPr>
        <p:blipFill>
          <a:blip r:embed="rId5"/>
          <a:stretch/>
        </p:blipFill>
        <p:spPr>
          <a:xfrm>
            <a:off x="7543800" y="3581280"/>
            <a:ext cx="727200" cy="925560"/>
          </a:xfrm>
          <a:prstGeom prst="rect">
            <a:avLst/>
          </a:prstGeom>
          <a:ln w="0">
            <a:noFill/>
          </a:ln>
        </p:spPr>
      </p:pic>
      <p:pic>
        <p:nvPicPr>
          <p:cNvPr id="120" name="caja%20student" descr=""/>
          <p:cNvPicPr/>
          <p:nvPr/>
        </p:nvPicPr>
        <p:blipFill>
          <a:blip r:embed="rId6"/>
          <a:stretch/>
        </p:blipFill>
        <p:spPr>
          <a:xfrm>
            <a:off x="7162920" y="4740120"/>
            <a:ext cx="1371600" cy="552600"/>
          </a:xfrm>
          <a:prstGeom prst="rect">
            <a:avLst/>
          </a:prstGeom>
          <a:ln w="0">
            <a:noFill/>
          </a:ln>
        </p:spPr>
      </p:pic>
      <p:pic>
        <p:nvPicPr>
          <p:cNvPr id="121" name="quattro%20bn" descr=""/>
          <p:cNvPicPr/>
          <p:nvPr/>
        </p:nvPicPr>
        <p:blipFill>
          <a:blip r:embed="rId7"/>
          <a:stretch/>
        </p:blipFill>
        <p:spPr>
          <a:xfrm>
            <a:off x="5638680" y="6019920"/>
            <a:ext cx="1828800" cy="566640"/>
          </a:xfrm>
          <a:prstGeom prst="rect">
            <a:avLst/>
          </a:prstGeom>
          <a:ln w="0">
            <a:noFill/>
          </a:ln>
        </p:spPr>
      </p:pic>
      <p:pic>
        <p:nvPicPr>
          <p:cNvPr id="122" name="tarjeta" descr=""/>
          <p:cNvPicPr/>
          <p:nvPr/>
        </p:nvPicPr>
        <p:blipFill>
          <a:blip r:embed="rId8"/>
          <a:stretch/>
        </p:blipFill>
        <p:spPr>
          <a:xfrm>
            <a:off x="7680240" y="5638680"/>
            <a:ext cx="66672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676520" y="152280"/>
            <a:ext cx="258480" cy="590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19320" y="380880"/>
            <a:ext cx="566244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400800" y="99072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90920" y="11430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2720" y="5335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99"/>
                </a:solidFill>
                <a:latin typeface="Arial"/>
              </a:rPr>
              <a:t>Componente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600200"/>
            <a:ext cx="586764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Unidad d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Comparte una o varias fuentes de video y las transmite a los estudiantes seleccionados o a toda la cl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Audio / Intercomun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Permite hablar y escuchar, transmitir música, un modo natural de asistencia a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Unidad de Proy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Una interface para proyectar cualquiera de los monitores de los estudiantes a través de un proyector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 (Hebrew)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010280" y="2209680"/>
          <a:ext cx="14479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209680"/>
                    <a:ext cx="1447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6934320" y="3352680"/>
            <a:ext cx="837720" cy="794520"/>
            <a:chOff x="6934320" y="3352680"/>
            <a:chExt cx="837720" cy="794520"/>
          </a:xfrm>
        </p:grpSpPr>
        <p:sp>
          <p:nvSpPr>
            <p:cNvPr id="132" name=""/>
            <p:cNvSpPr/>
            <p:nvPr/>
          </p:nvSpPr>
          <p:spPr>
            <a:xfrm>
              <a:off x="6934320" y="3352680"/>
              <a:ext cx="837720" cy="79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64" y="17416"/>
                  </a:moveTo>
                  <a:arcTo wR="10800" hR="10800" stAng="8533421" swAng="1540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2264" y="17416"/>
                  </a:moveTo>
                  <a:arcTo wR="10800" hR="10800" stAng="8533421" swAng="1540886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993360" y="3832920"/>
              <a:ext cx="720720" cy="230760"/>
              <a:chOff x="6993360" y="3832920"/>
              <a:chExt cx="720720" cy="2307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993360" y="3832920"/>
                <a:ext cx="96840" cy="230760"/>
                <a:chOff x="6993360" y="3832920"/>
                <a:chExt cx="96840" cy="23076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6993360" y="3894120"/>
                  <a:ext cx="96840" cy="109800"/>
                  <a:chOff x="6993360" y="3894120"/>
                  <a:chExt cx="96840" cy="10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993360" y="3897000"/>
                    <a:ext cx="896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107161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10716169"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996240" y="3894120"/>
                    <a:ext cx="9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546" y="21597"/>
                        </a:moveTo>
                        <a:arcTo wR="10800" hR="10800" stAng="5480873" swAng="106382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546" y="21597"/>
                        </a:moveTo>
                        <a:arcTo wR="10800" hR="10800" stAng="5480873" swAng="10638254"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7027200" y="3832920"/>
                  <a:ext cx="25920" cy="23076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617960" y="3832920"/>
                <a:ext cx="96120" cy="230760"/>
                <a:chOff x="7617960" y="3832920"/>
                <a:chExt cx="96120" cy="2307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617960" y="3894120"/>
                  <a:ext cx="96120" cy="109800"/>
                  <a:chOff x="7617960" y="3894120"/>
                  <a:chExt cx="96120" cy="109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7623360" y="3897000"/>
                    <a:ext cx="9072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800000"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617960" y="3894120"/>
                    <a:ext cx="9072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800000"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7652520" y="3832920"/>
                  <a:ext cx="27000" cy="23076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" name=""/>
          <p:cNvGrpSpPr/>
          <p:nvPr/>
        </p:nvGrpSpPr>
        <p:grpSpPr>
          <a:xfrm>
            <a:off x="6623280" y="4495680"/>
            <a:ext cx="1550880" cy="1044720"/>
            <a:chOff x="6623280" y="4495680"/>
            <a:chExt cx="1550880" cy="1044720"/>
          </a:xfrm>
        </p:grpSpPr>
        <p:grpSp>
          <p:nvGrpSpPr>
            <p:cNvPr id="145" name=""/>
            <p:cNvGrpSpPr/>
            <p:nvPr/>
          </p:nvGrpSpPr>
          <p:grpSpPr>
            <a:xfrm>
              <a:off x="7280280" y="4495680"/>
              <a:ext cx="893880" cy="663840"/>
              <a:chOff x="7280280" y="4495680"/>
              <a:chExt cx="893880" cy="6638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7280280" y="4495680"/>
                <a:ext cx="881280" cy="60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05840" y="5159520"/>
                <a:ext cx="86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623280" y="5048280"/>
              <a:ext cx="746640" cy="492120"/>
              <a:chOff x="6623280" y="5048280"/>
              <a:chExt cx="746640" cy="492120"/>
            </a:xfrm>
          </p:grpSpPr>
          <p:sp>
            <p:nvSpPr>
              <p:cNvPr id="149" name=""/>
              <p:cNvSpPr/>
              <p:nvPr/>
            </p:nvSpPr>
            <p:spPr>
              <a:xfrm rot="16200000">
                <a:off x="6819840" y="5135400"/>
                <a:ext cx="270000" cy="539640"/>
              </a:xfrm>
              <a:prstGeom prst="rtTriangl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220000">
                <a:off x="6629400" y="5227200"/>
                <a:ext cx="654120" cy="165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 rot="14820000">
                <a:off x="7225920" y="5085720"/>
                <a:ext cx="144720" cy="93240"/>
              </a:xfrm>
              <a:custGeom>
                <a:avLst/>
                <a:gdLst>
                  <a:gd name="textAreaLeft" fmla="*/ 31680 w 144720"/>
                  <a:gd name="textAreaRight" fmla="*/ 113040 w 144720"/>
                  <a:gd name="textAreaTop" fmla="*/ 20520 h 93240"/>
                  <a:gd name="textAreaBottom" fmla="*/ 72720 h 9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423720"/>
            <a:ext cx="258480" cy="59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6680" y="57636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33812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19520" y="149076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72864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Al final del Día con CLASSNET: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828800"/>
            <a:ext cx="73152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El Profesor ahorra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a Clase permanece e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os Estudiantes aprende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ME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a Enseñanza e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MULTIM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14300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19520" y="129528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Aplicaciones en Educaci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n y Entr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76520"/>
            <a:ext cx="784836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Banc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Chase Manhattan Bank, Bank Discount, Bank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Hapoalim, Banca Comm. Italian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ntrenamiento Militar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Israel, USA, UK, Fr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dustria Automovilística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SEAT, Volkswagen, Merce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de Telecomunicacione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Bezeq, Telecom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Motorola, Cellco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Televisió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Canal 3 Israelí, RAI en Ita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Aérea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EL-AL, Iberia, Alitali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Proveedores de Interne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Unidat, Uninet Italy,Verio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Netv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mpresas Farmacéutica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Te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mpresas de Computación y Entrenamiento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IBM, John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Bryce, Oracle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Financiera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Arca, Financial Services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de Segur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National Insuranc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14300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19520" y="129528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Aplicaciones en Educaci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n y Entr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676520"/>
            <a:ext cx="784836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mpresas de Hi-Tech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Nice, Comvers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Eléctrica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I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mpresas de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mpresas de Transport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(Israeli Bus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Autoridades de Trenes y Pu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rr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Compañías de Abastecimiento de Agua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Hos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Gobierno y Municipalidades Lo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Bols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Escuelas de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Y muchas má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295280"/>
            <a:ext cx="33526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rufsschule Ste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ricsson 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A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cania 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ministration Commu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uter Consul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cher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ectrabel Ti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I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TO C3 Agency Bruss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verview S.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rby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emens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fitec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lenet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ang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295280"/>
            <a:ext cx="37335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Itaca-But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Lemos De Castro - Rio De Ja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cuela Del Fut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cuela Lourenco Cast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nai Ipiranga (Sa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nai Man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ock University, St. Cathe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nadian Tire,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e for Computer Studies, North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British Columbia, Vancou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Lethbridge, Al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Ottawa, Ott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Waterloo, Waterl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rk University, North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retaria De Education De Iqu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gramas Educativo Si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219320"/>
            <a:ext cx="37335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istizabal - Correa, Medel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o De Capacitation Univer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ectronico, Medel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fotrade Bogo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retaria De Education De Medel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Nacional, Medel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FSZ Republic Social Welfare 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IC IS Centre of Zagr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r University for Science and Technolog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lege of Kil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lege of Savonli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ighschool of Alasta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ighschool of Vihtavu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rsing school of Tamp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chool of Saarnilaakso, Esp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1219320"/>
            <a:ext cx="37339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NCF (National Railway Author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ir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BM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anque Paris-Bas,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fi Sourd Institute,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ungarian Military Acadamy, Budap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rand Eotvos University, Budap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zent-Gyorgyi Medical University, Budap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lege of Commerce, C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munity College, Dun Laogh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itas Ireland Ltd, Dub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rtobello College, Dub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tion de la Salle Secondary Schoo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pital, Limer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nior College Ballyfermot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e, Dub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. Columcille's Primary School, Knockly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cation School, Inchicore, Dub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aterford Institute of Technology, Water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278000"/>
            <a:ext cx="373356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f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P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uter Gallery, San J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ngapo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vil Service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gee Ann Polytech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P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ngapore Police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. Joseph Sec.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leskolan, Halls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ungliga Technology High School, Hani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loy High School, Sol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llvigymnasiet, K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290600"/>
            <a:ext cx="37339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oegio Salesianos, Zarag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Ingles, Zarag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Salesiano Sto. Domingo,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kastola Azpeitia, San Sebast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Guindavols, Ler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litecnico Don Bosco,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lesianos Atocha,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de la Ri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. Ingeniera Superiora Navales,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bacus Research, St. G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gro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TS, Samed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wiss Ar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Data 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GC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ewlett Packard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ikano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219320"/>
            <a:ext cx="373356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an Pu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ank of 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ula Medical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tamat 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rung Siam Enterprise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rung Thai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apam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nistry of Public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ECTEC (National Electronics and Computer Technology Cen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ac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rinthorn Nursing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hai Chamber of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hai Military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he Siam Cement 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yota Train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COM (United Communication Industry Lt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raz Microsoft Train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OC Ho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219320"/>
            <a:ext cx="37339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mbridgeshire Council (local govern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CL Peri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endon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S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earch 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sco Super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he Foreign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foland, Monte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uropean Institute University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partment of Land &amp; Surv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tional Electronic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yal Hashemite 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De Informatica Educativa Dies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un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219320"/>
            <a:ext cx="37335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tocad Training Center, Tel Av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ank Hapoal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ank Mizra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dtech Train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GITAL Hi Tech Seminar, Herzli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BM Training Center, Jerusa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Aircraft Industries, Ben Gurion Air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Defence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Finance Office, Jerusa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Foreign Office, Jerusa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Prime Minister Office, Jerusa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srael Social Security, Tel Av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hn Brice, Tel Av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korot, National Water 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tional Adult Retraining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tional Electric Indu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mnitech Train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acle Training Center, Tel Av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dagogic Center Rehov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fael, National Authority for Defense, Hai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van School, Tel Av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l Aviv Municip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219320"/>
            <a:ext cx="373392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al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ury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NO Consulting 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unchon Technical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G Security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ucky Security Ltd., Seo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msung Card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msung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msung Data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msung Fire &amp; Marine Insurance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msung Life Insurance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P (Korea)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F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S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pta Opt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P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N Lodgtix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  <a:ea typeface="Times New Roman (Hebrew)"/>
              </a:rPr>
              <a:t>¡Sienta la diferencia!</a:t>
            </a:r>
            <a:br>
              <a:rPr sz="3200"/>
            </a:br>
            <a:r>
              <a:rPr b="1" lang="en-US" sz="3200" spc="-1" strike="noStrike">
                <a:solidFill>
                  <a:srgbClr val="3366cc"/>
                </a:solidFill>
                <a:latin typeface="Arial"/>
                <a:ea typeface="Times New Roman (Hebrew)"/>
              </a:rPr>
              <a:t>¡Antes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tes" descr=""/>
          <p:cNvPicPr/>
          <p:nvPr/>
        </p:nvPicPr>
        <p:blipFill>
          <a:blip r:embed="rId1"/>
          <a:stretch/>
        </p:blipFill>
        <p:spPr>
          <a:xfrm>
            <a:off x="2120760" y="1919160"/>
            <a:ext cx="490392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371600"/>
            <a:ext cx="373392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quaculture School, Bridg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V Associates, Storrs, 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ontronics, Somerville,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ost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yant College, 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cknell University, Lewis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ifornia State University, Fuller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vin Kl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ty University of 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umbia University,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ta Serve, Eden Prairie, 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t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rt Sam, Hou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llaudette University, Washington D.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.B. Communications, North Heaven, 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ealth R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ppman Corporation, Chantilly, 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tos College, 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nal Revenue Service, Detroit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1371600"/>
            <a:ext cx="373392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PFW University, Fort Wa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RS Detroit Compu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ckson College, Jack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hn Carroll University, Clev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ne Community College, Eug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cktite Corporation, Rocky 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rvyn's Department Stores, Oackland,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ami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ine Web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trick Air Force Base, 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inkerton Acade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ter&amp;G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uensboro Community College, Bay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cit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acher's Insurance Inc., Denv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ty of Houston, Tex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llanova University, Philadelp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66680" y="2286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238880" y="838080"/>
            <a:ext cx="900360" cy="338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9907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Lista parcial de instalaciones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776240"/>
            <a:ext cx="37339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Politecnico Auditorio Ed. Intelig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o Capacitation De Grupo Cars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Del Valle De Mexico, Dist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Technologia De Tulanci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Politecn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upo Didatec, Distrito 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dustrias Ferber, Distrito 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ion XXI. Distrito 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1776240"/>
            <a:ext cx="3733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Isabel Flores De Oliva, 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Jean De Boul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Maria Auxiliadora Del Calla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Maria Molina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San Jose De Truji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legio San Jose Obr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De Idiomas, Pontficia, Univer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to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ituto Mastertech, 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ttituto Ort, 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Cato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Nacional Daniel Alcides Carr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Cerro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iversidad Prat., 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82480" y="37339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99"/>
                </a:solidFill>
                <a:latin typeface="Arial"/>
              </a:rPr>
              <a:t>Agradecemos vuestr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02040" y="51055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333399"/>
                </a:solidFill>
                <a:latin typeface="Arial"/>
              </a:rPr>
              <a:t>www.itpsof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logo%20big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496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9200" y="682560"/>
            <a:ext cx="646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Times New Roman (Hebrew)"/>
              </a:rPr>
              <a:t>… 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Times New Roman (Hebrew)"/>
              </a:rPr>
              <a:t>y después de Classn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spues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3044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09680"/>
            <a:ext cx="41148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Permite al profes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Controlar el computador de cada estudiante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Oscurecer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las pantallas de los estudiantes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Entregar el control a un estudi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Formar gru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Transferir filmes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en tiempo re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deal para Laboratorios de Idi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Times New Roman (Hebrew)"/>
              </a:rPr>
              <a:t>Y otras opciones má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152388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Red local para entrenamiento inter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228600"/>
            <a:ext cx="7010640" cy="1176480"/>
            <a:chOff x="1066680" y="228600"/>
            <a:chExt cx="7010640" cy="1176480"/>
          </a:xfrm>
        </p:grpSpPr>
        <p:pic>
          <p:nvPicPr>
            <p:cNvPr id="50" name="backg101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6934320" y="1066680"/>
              <a:ext cx="9000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backg101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classnet%20text" descr=""/>
            <p:cNvPicPr/>
            <p:nvPr/>
          </p:nvPicPr>
          <p:blipFill>
            <a:blip r:embed="rId3"/>
            <a:stretch/>
          </p:blipFill>
          <p:spPr>
            <a:xfrm>
              <a:off x="3048120" y="569880"/>
              <a:ext cx="2743200" cy="5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logo%20small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70812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catalog" descr=""/>
          <p:cNvPicPr/>
          <p:nvPr/>
        </p:nvPicPr>
        <p:blipFill>
          <a:blip r:embed="rId5"/>
          <a:stretch/>
        </p:blipFill>
        <p:spPr>
          <a:xfrm>
            <a:off x="4952880" y="2133720"/>
            <a:ext cx="342900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9528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lbertus Medium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66680" y="228600"/>
            <a:ext cx="7337520" cy="1176480"/>
            <a:chOff x="1066680" y="228600"/>
            <a:chExt cx="7337520" cy="1176480"/>
          </a:xfrm>
        </p:grpSpPr>
        <p:grpSp>
          <p:nvGrpSpPr>
            <p:cNvPr id="61" name=""/>
            <p:cNvGrpSpPr/>
            <p:nvPr/>
          </p:nvGrpSpPr>
          <p:grpSpPr>
            <a:xfrm>
              <a:off x="1066680" y="228600"/>
              <a:ext cx="7010640" cy="1176480"/>
              <a:chOff x="1066680" y="228600"/>
              <a:chExt cx="7010640" cy="1176480"/>
            </a:xfrm>
          </p:grpSpPr>
          <p:pic>
            <p:nvPicPr>
              <p:cNvPr id="62" name="backg101" descr=""/>
              <p:cNvPicPr/>
              <p:nvPr/>
            </p:nvPicPr>
            <p:blipFill>
              <a:blip r:embed="rId1">
                <a:lum bright="36000"/>
              </a:blip>
              <a:stretch/>
            </p:blipFill>
            <p:spPr>
              <a:xfrm>
                <a:off x="6934320" y="1066680"/>
                <a:ext cx="90000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backg101" descr=""/>
              <p:cNvPicPr/>
              <p:nvPr/>
            </p:nvPicPr>
            <p:blipFill>
              <a:blip r:embed="rId2">
                <a:lum bright="36000"/>
              </a:blip>
              <a:stretch/>
            </p:blipFill>
            <p:spPr>
              <a:xfrm>
                <a:off x="1219320" y="228600"/>
                <a:ext cx="25848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066680" y="380880"/>
                <a:ext cx="5662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819520" y="1219320"/>
                <a:ext cx="5257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classnet%20text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69880"/>
                <a:ext cx="2743200" cy="57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logo%20small" descr=""/>
            <p:cNvPicPr/>
            <p:nvPr/>
          </p:nvPicPr>
          <p:blipFill>
            <a:blip r:embed="rId4"/>
            <a:stretch/>
          </p:blipFill>
          <p:spPr>
            <a:xfrm>
              <a:off x="7696080" y="228600"/>
              <a:ext cx="70812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aula" descr=""/>
          <p:cNvPicPr/>
          <p:nvPr/>
        </p:nvPicPr>
        <p:blipFill>
          <a:blip r:embed="rId5"/>
          <a:stretch/>
        </p:blipFill>
        <p:spPr>
          <a:xfrm>
            <a:off x="1447920" y="1731960"/>
            <a:ext cx="632592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371600"/>
            <a:ext cx="86868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nito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s pantallas de uno o m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á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s estudiantes simul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á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84ac8"/>
                </a:solidFill>
                <a:latin typeface="Arial"/>
              </a:rPr>
              <a:t>Transm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 pantalla del Profesor/Alumno a Uno/Grupo/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Control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el computador de cualquier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sca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s pantallas de todos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Coordine gupos</a:t>
            </a:r>
            <a:r>
              <a:rPr b="1" lang="en-US" sz="2400" spc="-1" strike="noStrike">
                <a:solidFill>
                  <a:srgbClr val="2b05b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de acuerdo a criterios dive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Oscurezca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cualquier o todas las pant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b6"/>
                </a:solidFill>
                <a:latin typeface="Arial"/>
              </a:rPr>
              <a:t>Bloque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el teclado y el ratón del estudiante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228600"/>
            <a:ext cx="7337520" cy="1176480"/>
            <a:chOff x="1066680" y="228600"/>
            <a:chExt cx="7337520" cy="1176480"/>
          </a:xfrm>
        </p:grpSpPr>
        <p:grpSp>
          <p:nvGrpSpPr>
            <p:cNvPr id="71" name=""/>
            <p:cNvGrpSpPr/>
            <p:nvPr/>
          </p:nvGrpSpPr>
          <p:grpSpPr>
            <a:xfrm>
              <a:off x="1066680" y="228600"/>
              <a:ext cx="7010640" cy="1176480"/>
              <a:chOff x="1066680" y="228600"/>
              <a:chExt cx="7010640" cy="1176480"/>
            </a:xfrm>
          </p:grpSpPr>
          <p:pic>
            <p:nvPicPr>
              <p:cNvPr id="72" name="backg101" descr=""/>
              <p:cNvPicPr/>
              <p:nvPr/>
            </p:nvPicPr>
            <p:blipFill>
              <a:blip r:embed="rId1">
                <a:lum bright="36000"/>
              </a:blip>
              <a:stretch/>
            </p:blipFill>
            <p:spPr>
              <a:xfrm>
                <a:off x="6934320" y="1066680"/>
                <a:ext cx="90000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backg101" descr=""/>
              <p:cNvPicPr/>
              <p:nvPr/>
            </p:nvPicPr>
            <p:blipFill>
              <a:blip r:embed="rId2">
                <a:lum bright="36000"/>
              </a:blip>
              <a:stretch/>
            </p:blipFill>
            <p:spPr>
              <a:xfrm>
                <a:off x="1219320" y="228600"/>
                <a:ext cx="25848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066680" y="380880"/>
                <a:ext cx="5662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19520" y="1219320"/>
                <a:ext cx="5257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" name="classnet%20text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69880"/>
                <a:ext cx="2743200" cy="57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logo%20small" descr=""/>
            <p:cNvPicPr/>
            <p:nvPr/>
          </p:nvPicPr>
          <p:blipFill>
            <a:blip r:embed="rId4"/>
            <a:stretch/>
          </p:blipFill>
          <p:spPr>
            <a:xfrm>
              <a:off x="7696080" y="228600"/>
              <a:ext cx="708120" cy="3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0666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19520" y="12193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5160" y="53172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Y Además …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001960"/>
            <a:ext cx="73152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últiples métodos de comunic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Intercambio de Audio en 2 V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Sistema de Mensajería (E-mail int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“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eedback” o Retroalimentación en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izarra Digital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enfatice elementos de su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914400" y="228600"/>
            <a:ext cx="258840" cy="59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4572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162920" y="1219320"/>
            <a:ext cx="976320" cy="338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24080" y="13716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720" y="658800"/>
            <a:ext cx="74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Ventajas del Software de Classnet: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Aristoclass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676520"/>
            <a:ext cx="731520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Fácil us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– Interfase de usuario gráfica (GU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Barra de herramientas con b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Totalmente en españ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ontrol unificad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– Posibilidad de operar diversa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aplicaciones sobre la mism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panta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mbiente segur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– Uso de claves y de nom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de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Guarde la configuración de su clas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– y descárgu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risto" descr=""/>
          <p:cNvPicPr/>
          <p:nvPr/>
        </p:nvPicPr>
        <p:blipFill>
          <a:blip r:embed="rId9"/>
          <a:stretch/>
        </p:blipFill>
        <p:spPr>
          <a:xfrm flipH="1" rot="10800000">
            <a:off x="5410080" y="2590560"/>
            <a:ext cx="31006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37160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371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9999"/>
                </a:solidFill>
                <a:latin typeface="Arial"/>
              </a:rPr>
              <a:t>Sistemas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057400"/>
            <a:ext cx="4724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señanza individual y de grupo m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 eficaz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aprender, 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utiliza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O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oporte integral de 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7320" y="32767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3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525780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Quat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248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Board  y 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6248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66680" y="228600"/>
            <a:ext cx="7337520" cy="1176480"/>
            <a:chOff x="1066680" y="228600"/>
            <a:chExt cx="7337520" cy="1176480"/>
          </a:xfrm>
        </p:grpSpPr>
        <p:grpSp>
          <p:nvGrpSpPr>
            <p:cNvPr id="100" name=""/>
            <p:cNvGrpSpPr/>
            <p:nvPr/>
          </p:nvGrpSpPr>
          <p:grpSpPr>
            <a:xfrm>
              <a:off x="1066680" y="228600"/>
              <a:ext cx="7010640" cy="1176480"/>
              <a:chOff x="1066680" y="228600"/>
              <a:chExt cx="7010640" cy="1176480"/>
            </a:xfrm>
          </p:grpSpPr>
          <p:pic>
            <p:nvPicPr>
              <p:cNvPr id="101" name="backg101" descr=""/>
              <p:cNvPicPr/>
              <p:nvPr/>
            </p:nvPicPr>
            <p:blipFill>
              <a:blip r:embed="rId1">
                <a:lum bright="36000"/>
              </a:blip>
              <a:stretch/>
            </p:blipFill>
            <p:spPr>
              <a:xfrm>
                <a:off x="6934320" y="1066680"/>
                <a:ext cx="90000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backg101" descr=""/>
              <p:cNvPicPr/>
              <p:nvPr/>
            </p:nvPicPr>
            <p:blipFill>
              <a:blip r:embed="rId2">
                <a:lum bright="36000"/>
              </a:blip>
              <a:stretch/>
            </p:blipFill>
            <p:spPr>
              <a:xfrm>
                <a:off x="1219320" y="228600"/>
                <a:ext cx="25848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066680" y="380880"/>
                <a:ext cx="5662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1219320"/>
                <a:ext cx="5257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5" name="classnet%20text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69880"/>
                <a:ext cx="2743200" cy="57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6" name="logo%20small" descr=""/>
            <p:cNvPicPr/>
            <p:nvPr/>
          </p:nvPicPr>
          <p:blipFill>
            <a:blip r:embed="rId4"/>
            <a:stretch/>
          </p:blipFill>
          <p:spPr>
            <a:xfrm>
              <a:off x="7696080" y="228600"/>
              <a:ext cx="70812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caja" descr=""/>
          <p:cNvPicPr/>
          <p:nvPr/>
        </p:nvPicPr>
        <p:blipFill>
          <a:blip r:embed="rId5"/>
          <a:stretch/>
        </p:blipFill>
        <p:spPr>
          <a:xfrm>
            <a:off x="5486400" y="2209680"/>
            <a:ext cx="2335320" cy="1005120"/>
          </a:xfrm>
          <a:prstGeom prst="rect">
            <a:avLst/>
          </a:prstGeom>
          <a:ln w="0">
            <a:noFill/>
          </a:ln>
        </p:spPr>
      </p:pic>
      <p:pic>
        <p:nvPicPr>
          <p:cNvPr id="108" name="quattro" descr=""/>
          <p:cNvPicPr/>
          <p:nvPr/>
        </p:nvPicPr>
        <p:blipFill>
          <a:blip r:embed="rId6"/>
          <a:stretch/>
        </p:blipFill>
        <p:spPr>
          <a:xfrm>
            <a:off x="6477120" y="4398840"/>
            <a:ext cx="1809720" cy="824040"/>
          </a:xfrm>
          <a:prstGeom prst="rect">
            <a:avLst/>
          </a:prstGeom>
          <a:ln w="0">
            <a:noFill/>
          </a:ln>
        </p:spPr>
      </p:pic>
      <p:pic>
        <p:nvPicPr>
          <p:cNvPr id="109" name="board" descr=""/>
          <p:cNvPicPr/>
          <p:nvPr/>
        </p:nvPicPr>
        <p:blipFill>
          <a:blip r:embed="rId7"/>
          <a:stretch/>
        </p:blipFill>
        <p:spPr>
          <a:xfrm>
            <a:off x="4686480" y="4987800"/>
            <a:ext cx="1714320" cy="1108080"/>
          </a:xfrm>
          <a:prstGeom prst="rect">
            <a:avLst/>
          </a:prstGeom>
          <a:ln w="0">
            <a:noFill/>
          </a:ln>
        </p:spPr>
      </p:pic>
      <p:pic>
        <p:nvPicPr>
          <p:cNvPr id="110" name="aristo" descr=""/>
          <p:cNvPicPr/>
          <p:nvPr/>
        </p:nvPicPr>
        <p:blipFill>
          <a:blip r:embed="rId8"/>
          <a:stretch/>
        </p:blipFill>
        <p:spPr>
          <a:xfrm>
            <a:off x="1166760" y="5410080"/>
            <a:ext cx="2567160" cy="6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2:28:47Z</dcterms:created>
  <dc:creator>Lizzie Cynovich</dc:creator>
  <dc:description/>
  <dc:language>en-US</dc:language>
  <cp:lastModifiedBy>Registered User</cp:lastModifiedBy>
  <dcterms:modified xsi:type="dcterms:W3CDTF">2001-08-31T03:56:08Z</dcterms:modified>
  <cp:revision>201</cp:revision>
  <dc:subject/>
  <dc:title>Perfil de ITP</dc:title>
</cp:coreProperties>
</file>