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8189913" cy="10631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2162-B6A3-4C7F-9401-B70CF08D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4160" y="3069720"/>
            <a:ext cx="696276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4160" y="6401520"/>
            <a:ext cx="696276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409F-5EC0-479D-9F76-9949393B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4160" y="3069720"/>
            <a:ext cx="3397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82120" y="3069720"/>
            <a:ext cx="3397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4160" y="6401520"/>
            <a:ext cx="3397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82120" y="6401520"/>
            <a:ext cx="3397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ACE-9971-4CA5-BB4E-D9539D9C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4160" y="3069720"/>
            <a:ext cx="224172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68200" y="3069720"/>
            <a:ext cx="224172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22600" y="3069720"/>
            <a:ext cx="224172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4160" y="6401520"/>
            <a:ext cx="224172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68200" y="6401520"/>
            <a:ext cx="224172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22600" y="6401520"/>
            <a:ext cx="224172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CB8-8E20-44B1-97ED-7BB982E4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4160" y="3069720"/>
            <a:ext cx="6962760" cy="63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4001-70E1-46A3-83F9-3663D410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4160" y="3069720"/>
            <a:ext cx="6962760" cy="637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02BC-4930-4D27-87C8-6B326156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4160" y="3069720"/>
            <a:ext cx="3397680" cy="637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82120" y="3069720"/>
            <a:ext cx="3397680" cy="637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31FE-48A4-4C5B-A2E9-FAE970DE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04C-C2F6-46AE-AD17-46B32C9D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4160" y="944280"/>
            <a:ext cx="696276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F75-4564-46E4-961F-B6820F23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4160" y="3069720"/>
            <a:ext cx="3397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82120" y="3069720"/>
            <a:ext cx="3397680" cy="637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4160" y="6401520"/>
            <a:ext cx="3397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420-26F8-47C4-8A38-1D35B870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4160" y="3069720"/>
            <a:ext cx="3397680" cy="637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82120" y="3069720"/>
            <a:ext cx="3397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2120" y="6401520"/>
            <a:ext cx="3397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24E-308F-4F5F-B371-C4C25FC7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4160" y="3069720"/>
            <a:ext cx="3397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82120" y="3069720"/>
            <a:ext cx="3397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4160" y="6401520"/>
            <a:ext cx="696276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E8D-5EBE-44E0-BE9F-7BABE7CA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4160" y="944280"/>
            <a:ext cx="69627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4160" y="3069720"/>
            <a:ext cx="6962760" cy="637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4520" y="9685440"/>
            <a:ext cx="17064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98640" y="9685440"/>
            <a:ext cx="259416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70160" y="9685440"/>
            <a:ext cx="170676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6410-A3AC-40B2-B0A5-F3B1BF4F1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lassnet1" descr=""/>
          <p:cNvPicPr/>
          <p:nvPr/>
        </p:nvPicPr>
        <p:blipFill>
          <a:blip r:embed="rId1"/>
          <a:stretch/>
        </p:blipFill>
        <p:spPr>
          <a:xfrm>
            <a:off x="0" y="0"/>
            <a:ext cx="8188200" cy="10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lassnet2" descr=""/>
          <p:cNvPicPr/>
          <p:nvPr/>
        </p:nvPicPr>
        <p:blipFill>
          <a:blip r:embed="rId1"/>
          <a:stretch/>
        </p:blipFill>
        <p:spPr>
          <a:xfrm>
            <a:off x="0" y="0"/>
            <a:ext cx="8177040" cy="10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lassnet3" descr=""/>
          <p:cNvPicPr/>
          <p:nvPr/>
        </p:nvPicPr>
        <p:blipFill>
          <a:blip r:embed="rId1"/>
          <a:stretch/>
        </p:blipFill>
        <p:spPr>
          <a:xfrm>
            <a:off x="0" y="0"/>
            <a:ext cx="8182080" cy="10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lassnet4" descr=""/>
          <p:cNvPicPr/>
          <p:nvPr/>
        </p:nvPicPr>
        <p:blipFill>
          <a:blip r:embed="rId1"/>
          <a:stretch/>
        </p:blipFill>
        <p:spPr>
          <a:xfrm>
            <a:off x="0" y="0"/>
            <a:ext cx="8094600" cy="10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21:51:40Z</dcterms:created>
  <dc:creator>Registered User</dc:creator>
  <dc:description/>
  <dc:language>en-US</dc:language>
  <cp:lastModifiedBy>Registered User</cp:lastModifiedBy>
  <dcterms:modified xsi:type="dcterms:W3CDTF">2001-11-27T00:18:32Z</dcterms:modified>
  <cp:revision>3</cp:revision>
  <dc:subject/>
  <dc:title>Presentación de PowerPoint</dc:title>
</cp:coreProperties>
</file>