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8189913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3BA-CEEF-4D21-A561-6EF91742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69627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4160" y="6401520"/>
            <a:ext cx="69627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B4F-B927-4A45-B831-71B78198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4160" y="64015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82120" y="64015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9B1-106F-48BD-8F55-FE5BF128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68200" y="30697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2600" y="30697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4160" y="64015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68200" y="64015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2600" y="64015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247-BDA8-461C-8DF0-13E8F3AF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4160" y="3069720"/>
            <a:ext cx="696276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542-EDE8-4C89-8BEF-C50D4A13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696276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4DD-A52F-40B3-9194-B19C57CD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258-FF2C-4820-9B5E-A443EDAA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657-DC13-47D6-8F3A-95A8058F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4160" y="944280"/>
            <a:ext cx="696276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872-FCA1-4DE7-9B0E-A83BF939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4160" y="64015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CFE-E515-4D4A-AFDA-81A4304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2120" y="64015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0C7-ACE0-4D46-BA39-B6BE002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4160" y="6401520"/>
            <a:ext cx="69627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355-8FB0-4A62-8D7D-0F115B9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4160" y="3069720"/>
            <a:ext cx="696276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4520" y="9685440"/>
            <a:ext cx="17064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98640" y="9685440"/>
            <a:ext cx="25941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70160" y="9685440"/>
            <a:ext cx="17067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ABC4-3C0B-4A76-963D-46C7811C4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lassnet1" descr=""/>
          <p:cNvPicPr/>
          <p:nvPr/>
        </p:nvPicPr>
        <p:blipFill>
          <a:blip r:embed="rId1"/>
          <a:stretch/>
        </p:blipFill>
        <p:spPr>
          <a:xfrm>
            <a:off x="0" y="0"/>
            <a:ext cx="8188200" cy="10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lassnet2" descr=""/>
          <p:cNvPicPr/>
          <p:nvPr/>
        </p:nvPicPr>
        <p:blipFill>
          <a:blip r:embed="rId1"/>
          <a:stretch/>
        </p:blipFill>
        <p:spPr>
          <a:xfrm>
            <a:off x="0" y="0"/>
            <a:ext cx="8177040" cy="10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lassnet3" descr=""/>
          <p:cNvPicPr/>
          <p:nvPr/>
        </p:nvPicPr>
        <p:blipFill>
          <a:blip r:embed="rId1"/>
          <a:stretch/>
        </p:blipFill>
        <p:spPr>
          <a:xfrm>
            <a:off x="0" y="0"/>
            <a:ext cx="8182080" cy="10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lassnet4" descr=""/>
          <p:cNvPicPr/>
          <p:nvPr/>
        </p:nvPicPr>
        <p:blipFill>
          <a:blip r:embed="rId1"/>
          <a:stretch/>
        </p:blipFill>
        <p:spPr>
          <a:xfrm>
            <a:off x="0" y="0"/>
            <a:ext cx="8094600" cy="10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21:51:40Z</dcterms:created>
  <dc:creator>Registered User</dc:creator>
  <dc:description/>
  <dc:language>en-US</dc:language>
  <cp:lastModifiedBy>Registered User</cp:lastModifiedBy>
  <dcterms:modified xsi:type="dcterms:W3CDTF">2001-11-27T00:18:32Z</dcterms:modified>
  <cp:revision>3</cp:revision>
  <dc:subject/>
  <dc:title>Presentación de PowerPoint</dc:title>
</cp:coreProperties>
</file>