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ra" descr=""/>
          <p:cNvPicPr/>
          <p:nvPr/>
        </p:nvPicPr>
        <p:blipFill>
          <a:blip r:embed="rId2"/>
          <a:stretch/>
        </p:blipFill>
        <p:spPr>
          <a:xfrm>
            <a:off x="0" y="0"/>
            <a:ext cx="53172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barra" descr=""/>
          <p:cNvPicPr/>
          <p:nvPr/>
        </p:nvPicPr>
        <p:blipFill>
          <a:blip r:embed="rId3"/>
          <a:stretch/>
        </p:blipFill>
        <p:spPr>
          <a:xfrm>
            <a:off x="8612280" y="0"/>
            <a:ext cx="5317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988560" y="4267080"/>
            <a:ext cx="71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9999"/>
                </a:solidFill>
                <a:latin typeface="Arial"/>
              </a:rPr>
              <a:t>CLASSNET Y ARISTO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logo%20big" descr=""/>
          <p:cNvPicPr/>
          <p:nvPr/>
        </p:nvPicPr>
        <p:blipFill>
          <a:blip r:embed="rId1"/>
          <a:stretch/>
        </p:blipFill>
        <p:spPr>
          <a:xfrm>
            <a:off x="2362320" y="1438200"/>
            <a:ext cx="4419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45720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¡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Escanee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las pantallas de todos los estudiant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103" name="transfer-07" descr=""/>
          <p:cNvPicPr/>
          <p:nvPr/>
        </p:nvPicPr>
        <p:blipFill>
          <a:blip r:embed="rId2"/>
          <a:stretch/>
        </p:blipFill>
        <p:spPr>
          <a:xfrm>
            <a:off x="2019240" y="1828800"/>
            <a:ext cx="51055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45720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¡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Times New Roman"/>
              </a:rPr>
              <a:t>Coordine grupos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 de acuerdo a criterios divers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106" name="transfer-08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5790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53352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¡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Oscurezca o bloquee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cualquier o todas las pantall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109" name="transfer-11" descr=""/>
          <p:cNvPicPr/>
          <p:nvPr/>
        </p:nvPicPr>
        <p:blipFill>
          <a:blip r:embed="rId2"/>
          <a:stretch/>
        </p:blipFill>
        <p:spPr>
          <a:xfrm>
            <a:off x="2019240" y="1676520"/>
            <a:ext cx="5105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45720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¡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Times New Roman"/>
              </a:rPr>
              <a:t>Converse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con sus estudiantes en Privado/Públic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112" name="transfer-13" descr=""/>
          <p:cNvPicPr/>
          <p:nvPr/>
        </p:nvPicPr>
        <p:blipFill>
          <a:blip r:embed="rId2"/>
          <a:stretch/>
        </p:blipFill>
        <p:spPr>
          <a:xfrm>
            <a:off x="1981080" y="1689120"/>
            <a:ext cx="518184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60948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¡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ransfiera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Archivos a Uno/Grupo/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115" name="transfer-14" descr=""/>
          <p:cNvPicPr/>
          <p:nvPr/>
        </p:nvPicPr>
        <p:blipFill>
          <a:blip r:embed="rId2"/>
          <a:stretch/>
        </p:blipFill>
        <p:spPr>
          <a:xfrm>
            <a:off x="2043000" y="1673280"/>
            <a:ext cx="50562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555920"/>
            <a:ext cx="80010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nito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las pantallas de uno o m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á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s estudiantes simul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á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ne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84ac8"/>
                </a:solidFill>
                <a:latin typeface="Arial"/>
              </a:rPr>
              <a:t>Transm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la pantalla del Profesor/Alumno a Uno/Grupo/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4a1f"/>
                </a:solidFill>
                <a:latin typeface="Arial"/>
              </a:rPr>
              <a:t>Control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el computador de cualquier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sca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las pantallas de todos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800"/>
                </a:solidFill>
                <a:latin typeface="Arial"/>
              </a:rPr>
              <a:t>Coordine gupos</a:t>
            </a:r>
            <a:r>
              <a:rPr b="1" lang="en-US" sz="2400" spc="-1" strike="noStrike">
                <a:solidFill>
                  <a:srgbClr val="2b05b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de acuerdo a criterios dive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4a1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4a1f"/>
                </a:solidFill>
                <a:latin typeface="Arial"/>
              </a:rPr>
              <a:t>Oscurezca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cualquier o todas las pant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b6"/>
                </a:solidFill>
                <a:latin typeface="Arial"/>
              </a:rPr>
              <a:t>Bloquee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el teclado y el rat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ó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Tahoma"/>
              </a:rPr>
              <a:t>n del estudi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3172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Resumiendo…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934320" y="10666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19520" y="12193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066680"/>
            <a:ext cx="900000" cy="338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819520" y="121932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5160" y="53172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Y Además ….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1676520"/>
            <a:ext cx="73152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Múltiples métodos de comunic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Intercambio de Audio en 2 V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Sistema de Mensajería (E-mail inte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“Feedback” o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Retroalimentación en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izarra Digital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– enfatice elementos de su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914400" y="228600"/>
            <a:ext cx="258840" cy="59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9480" y="45720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162920" y="1219320"/>
            <a:ext cx="976320" cy="338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24080" y="137160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7200" y="735120"/>
            <a:ext cx="74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Ventajas del Software de Classnet: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Aristoclass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600200"/>
            <a:ext cx="7619760" cy="52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Fácil uso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– Interfase de usuario gráfica (GUI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–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Barra de herramientas con bot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Totalmente en españ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Control unificado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– Posibilidad de operar diversas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aplicaciones sobre la misma pantal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Ambiente seguro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– Uso de claves y de nomb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de usu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Guarde la configuración de su clase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 – y descárgue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en cualquier mo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14300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19520" y="129528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572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Times New Roman"/>
              </a:rPr>
              <a:t>Problemas comunes y la solución de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828800"/>
            <a:ext cx="7315200" cy="48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Estudiante tímido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solicita ayuda privadamente utilizando el sistema de mensajería con audi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Estudiante perezoso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el profesor monitorea el progreso de los estudiantes sin moverse de su asiento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El estudiante se “trancó” en un problema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el profesor toma control de pantallas de los estudiantes y asesorar para poder llegar a l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Compartición de soluciones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  <a:ea typeface="Times New Roman"/>
              </a:rPr>
              <a:t>el profesor  proyecta la pantalla de un estudiante al resto del a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backg101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219320" y="228600"/>
            <a:ext cx="258480" cy="590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6680" y="380880"/>
            <a:ext cx="5662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ackg101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1143000"/>
            <a:ext cx="900000" cy="338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819520" y="1295280"/>
            <a:ext cx="5257800" cy="77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533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Times New Roman"/>
              </a:rPr>
              <a:t>Al final del Día con Classnet: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676520"/>
            <a:ext cx="73152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os Profesores ahorra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a Clase permanece e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os Estudiantes aprende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ME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Times New Roman"/>
              </a:rPr>
              <a:t>La Enseñanza es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MULTIM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479840" y="30448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7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758960"/>
          <a:ext cx="50292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8960"/>
                    <a:ext cx="50292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2816280"/>
            <a:ext cx="518184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CLASSNET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es una poderosa herramienta que pone bajo </a:t>
            </a: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el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control</a:t>
            </a: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del profesor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cada</a:t>
            </a: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monitor, ratón, teclado y recurso multimedia existentes en el a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Con tan sólo pulsar un par de teclas</a:t>
            </a: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el profesor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pue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Ver la pantalla de uno cualquiera de los estudian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Tomar control sobre los teclados y los ratones de los estudia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943520"/>
            <a:ext cx="77724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Transmitir una pantalla de estudiante a toda la clase o parte de el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Proyectar su pantalla a uno, todos o un grupo de monitores de estudian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Hacer muestreo de las pantallas de cualquier grupo de estudian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Intercambiar archivos y mensajes con los estudiant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Controlar el uso de impresoras en el a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66680" y="228600"/>
            <a:ext cx="7010640" cy="1176480"/>
            <a:chOff x="1066680" y="228600"/>
            <a:chExt cx="7010640" cy="1176480"/>
          </a:xfrm>
        </p:grpSpPr>
        <p:pic>
          <p:nvPicPr>
            <p:cNvPr id="47" name="backg101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6934320" y="1066680"/>
              <a:ext cx="9000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backg101" descr="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>
              <a:off x="1219320" y="228600"/>
              <a:ext cx="258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066680" y="380880"/>
              <a:ext cx="5662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19520" y="1219320"/>
              <a:ext cx="5257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classnet%20text" descr=""/>
            <p:cNvPicPr/>
            <p:nvPr/>
          </p:nvPicPr>
          <p:blipFill>
            <a:blip r:embed="rId5"/>
            <a:stretch/>
          </p:blipFill>
          <p:spPr>
            <a:xfrm>
              <a:off x="3048120" y="569880"/>
              <a:ext cx="2743200" cy="57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logo%20small" descr=""/>
          <p:cNvPicPr/>
          <p:nvPr/>
        </p:nvPicPr>
        <p:blipFill>
          <a:blip r:embed="rId6"/>
          <a:stretch/>
        </p:blipFill>
        <p:spPr>
          <a:xfrm>
            <a:off x="7696080" y="228600"/>
            <a:ext cx="708120" cy="343080"/>
          </a:xfrm>
          <a:prstGeom prst="rect">
            <a:avLst/>
          </a:prstGeom>
          <a:ln w="0">
            <a:noFill/>
          </a:ln>
        </p:spPr>
      </p:pic>
      <p:pic>
        <p:nvPicPr>
          <p:cNvPr id="53" name="catalog" descr=""/>
          <p:cNvPicPr/>
          <p:nvPr/>
        </p:nvPicPr>
        <p:blipFill>
          <a:blip r:embed="rId7"/>
          <a:stretch/>
        </p:blipFill>
        <p:spPr>
          <a:xfrm>
            <a:off x="5834160" y="160020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40000" y="365760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99"/>
                </a:solidFill>
                <a:latin typeface="Arial"/>
              </a:rPr>
              <a:t>Agradecemos vuestra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02040" y="510552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333399"/>
                </a:solidFill>
                <a:latin typeface="Arial"/>
              </a:rPr>
              <a:t>www.itpsof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logo%20big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419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371600"/>
            <a:ext cx="1828800" cy="228600"/>
          </a:xfrm>
          <a:prstGeom prst="rect">
            <a:avLst/>
          </a:prstGeom>
          <a:gradFill rotWithShape="0">
            <a:gsLst>
              <a:gs pos="0">
                <a:srgbClr val="b3b3b3"/>
              </a:gs>
              <a:gs pos="50000">
                <a:srgbClr val="ffffff"/>
              </a:gs>
              <a:gs pos="100000">
                <a:srgbClr val="b3b3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lbertus Medium"/>
              </a:rPr>
              <a:t>Aulas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066680" y="228600"/>
            <a:ext cx="7010640" cy="1176480"/>
            <a:chOff x="1066680" y="228600"/>
            <a:chExt cx="7010640" cy="1176480"/>
          </a:xfrm>
        </p:grpSpPr>
        <p:pic>
          <p:nvPicPr>
            <p:cNvPr id="58" name="backg101" descr="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6934320" y="1066680"/>
              <a:ext cx="90000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backg101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1219320" y="228600"/>
              <a:ext cx="2584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66680" y="380880"/>
              <a:ext cx="5662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19520" y="1219320"/>
              <a:ext cx="5257800" cy="77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classnet%20text" descr=""/>
            <p:cNvPicPr/>
            <p:nvPr/>
          </p:nvPicPr>
          <p:blipFill>
            <a:blip r:embed="rId3"/>
            <a:stretch/>
          </p:blipFill>
          <p:spPr>
            <a:xfrm>
              <a:off x="3048120" y="569880"/>
              <a:ext cx="2743200" cy="57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logo%20small" descr=""/>
          <p:cNvPicPr/>
          <p:nvPr/>
        </p:nvPicPr>
        <p:blipFill>
          <a:blip r:embed="rId4"/>
          <a:stretch/>
        </p:blipFill>
        <p:spPr>
          <a:xfrm>
            <a:off x="7696080" y="228600"/>
            <a:ext cx="708120" cy="343080"/>
          </a:xfrm>
          <a:prstGeom prst="rect">
            <a:avLst/>
          </a:prstGeom>
          <a:ln w="0">
            <a:noFill/>
          </a:ln>
        </p:spPr>
      </p:pic>
      <p:pic>
        <p:nvPicPr>
          <p:cNvPr id="64" name="aula" descr=""/>
          <p:cNvPicPr/>
          <p:nvPr/>
        </p:nvPicPr>
        <p:blipFill>
          <a:blip r:embed="rId5"/>
          <a:stretch/>
        </p:blipFill>
        <p:spPr>
          <a:xfrm>
            <a:off x="1447920" y="1731960"/>
            <a:ext cx="632592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371600"/>
            <a:ext cx="1828800" cy="228600"/>
          </a:xfrm>
          <a:prstGeom prst="rect">
            <a:avLst/>
          </a:prstGeom>
          <a:gradFill rotWithShape="0">
            <a:gsLst>
              <a:gs pos="0">
                <a:srgbClr val="b3b3b3"/>
              </a:gs>
              <a:gs pos="50000">
                <a:srgbClr val="ffffff"/>
              </a:gs>
              <a:gs pos="100000">
                <a:srgbClr val="b3b3b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Aulas 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371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9999"/>
                </a:solidFill>
                <a:latin typeface="Arial"/>
              </a:rPr>
              <a:t>Sistemas CLAS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2057400"/>
            <a:ext cx="4724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Enseñanza individual y de grupo m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 eficaz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, 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, interacci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ó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n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F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il de aprender, f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á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il de utilizar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  <a:ea typeface="Times New Roman"/>
              </a:rPr>
              <a:t>O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oporte integral de 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3421080"/>
                <a:tab algn="l" pos="3511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es-UY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A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7320" y="327672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3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33000" y="5257800"/>
            <a:ext cx="160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Quat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6248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Board  y L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248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Ver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333399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66680" y="228600"/>
            <a:ext cx="7337520" cy="1176480"/>
            <a:chOff x="1066680" y="228600"/>
            <a:chExt cx="7337520" cy="1176480"/>
          </a:xfrm>
        </p:grpSpPr>
        <p:grpSp>
          <p:nvGrpSpPr>
            <p:cNvPr id="74" name=""/>
            <p:cNvGrpSpPr/>
            <p:nvPr/>
          </p:nvGrpSpPr>
          <p:grpSpPr>
            <a:xfrm>
              <a:off x="1066680" y="228600"/>
              <a:ext cx="7010640" cy="1176480"/>
              <a:chOff x="1066680" y="228600"/>
              <a:chExt cx="7010640" cy="1176480"/>
            </a:xfrm>
          </p:grpSpPr>
          <p:pic>
            <p:nvPicPr>
              <p:cNvPr id="75" name="backg101" descr=""/>
              <p:cNvPicPr/>
              <p:nvPr/>
            </p:nvPicPr>
            <p:blipFill>
              <a:blip r:embed="rId1">
                <a:lum bright="36000"/>
              </a:blip>
              <a:stretch/>
            </p:blipFill>
            <p:spPr>
              <a:xfrm>
                <a:off x="6934320" y="1066680"/>
                <a:ext cx="900000" cy="33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backg101" descr=""/>
              <p:cNvPicPr/>
              <p:nvPr/>
            </p:nvPicPr>
            <p:blipFill>
              <a:blip r:embed="rId2">
                <a:lum bright="36000"/>
              </a:blip>
              <a:stretch/>
            </p:blipFill>
            <p:spPr>
              <a:xfrm>
                <a:off x="1219320" y="228600"/>
                <a:ext cx="258480" cy="59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1066680" y="380880"/>
                <a:ext cx="5662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19520" y="1219320"/>
                <a:ext cx="5257800" cy="77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9" name="classnet%20text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8120" y="569880"/>
                <a:ext cx="2743200" cy="57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logo%20small" descr=""/>
            <p:cNvPicPr/>
            <p:nvPr/>
          </p:nvPicPr>
          <p:blipFill>
            <a:blip r:embed="rId4"/>
            <a:stretch/>
          </p:blipFill>
          <p:spPr>
            <a:xfrm>
              <a:off x="7696080" y="228600"/>
              <a:ext cx="708120" cy="34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caja" descr=""/>
          <p:cNvPicPr/>
          <p:nvPr/>
        </p:nvPicPr>
        <p:blipFill>
          <a:blip r:embed="rId5"/>
          <a:stretch/>
        </p:blipFill>
        <p:spPr>
          <a:xfrm>
            <a:off x="5486400" y="2209680"/>
            <a:ext cx="2335320" cy="1005120"/>
          </a:xfrm>
          <a:prstGeom prst="rect">
            <a:avLst/>
          </a:prstGeom>
          <a:ln w="0">
            <a:noFill/>
          </a:ln>
        </p:spPr>
      </p:pic>
      <p:pic>
        <p:nvPicPr>
          <p:cNvPr id="82" name="quattro" descr=""/>
          <p:cNvPicPr/>
          <p:nvPr/>
        </p:nvPicPr>
        <p:blipFill>
          <a:blip r:embed="rId6"/>
          <a:stretch/>
        </p:blipFill>
        <p:spPr>
          <a:xfrm>
            <a:off x="6477120" y="4398840"/>
            <a:ext cx="1809720" cy="824040"/>
          </a:xfrm>
          <a:prstGeom prst="rect">
            <a:avLst/>
          </a:prstGeom>
          <a:ln w="0">
            <a:noFill/>
          </a:ln>
        </p:spPr>
      </p:pic>
      <p:pic>
        <p:nvPicPr>
          <p:cNvPr id="83" name="board" descr=""/>
          <p:cNvPicPr/>
          <p:nvPr/>
        </p:nvPicPr>
        <p:blipFill>
          <a:blip r:embed="rId7"/>
          <a:stretch/>
        </p:blipFill>
        <p:spPr>
          <a:xfrm>
            <a:off x="4686480" y="4987800"/>
            <a:ext cx="1714320" cy="1108080"/>
          </a:xfrm>
          <a:prstGeom prst="rect">
            <a:avLst/>
          </a:prstGeom>
          <a:ln w="0">
            <a:noFill/>
          </a:ln>
        </p:spPr>
      </p:pic>
      <p:pic>
        <p:nvPicPr>
          <p:cNvPr id="84" name="aristo" descr=""/>
          <p:cNvPicPr/>
          <p:nvPr/>
        </p:nvPicPr>
        <p:blipFill>
          <a:blip r:embed="rId8"/>
          <a:stretch/>
        </p:blipFill>
        <p:spPr>
          <a:xfrm>
            <a:off x="1166760" y="5410080"/>
            <a:ext cx="256716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9556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ient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ahoma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 diferencia: ¡An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87" name="antes" descr=""/>
          <p:cNvPicPr/>
          <p:nvPr/>
        </p:nvPicPr>
        <p:blipFill>
          <a:blip r:embed="rId2"/>
          <a:stretch/>
        </p:blipFill>
        <p:spPr>
          <a:xfrm>
            <a:off x="1652760" y="1125360"/>
            <a:ext cx="584028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62320" y="3049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¡ Y después de Classnet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90" name="despues" descr=""/>
          <p:cNvPicPr/>
          <p:nvPr/>
        </p:nvPicPr>
        <p:blipFill>
          <a:blip r:embed="rId2"/>
          <a:stretch/>
        </p:blipFill>
        <p:spPr>
          <a:xfrm>
            <a:off x="1415880" y="906480"/>
            <a:ext cx="63136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533520"/>
            <a:ext cx="6705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Times New Roman"/>
              </a:rPr>
              <a:t>Monitoree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 las pantallas de uno o más estudiantes simultáne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93" name="transfer-02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800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83200" y="457200"/>
            <a:ext cx="7977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Transmita</a:t>
            </a:r>
            <a:r>
              <a:rPr b="1" lang="en-US" sz="3600" spc="-1" strike="noStrike">
                <a:solidFill>
                  <a:srgbClr val="008080"/>
                </a:solidFill>
                <a:latin typeface="Arial"/>
                <a:ea typeface="Tahoma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la pantalla del Profesor/Alumn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Uno/Grupo/To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transfer-04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181840" cy="4702320"/>
          </a:xfrm>
          <a:prstGeom prst="rect">
            <a:avLst/>
          </a:prstGeom>
          <a:ln w="0">
            <a:noFill/>
          </a:ln>
        </p:spPr>
      </p:pic>
      <p:pic>
        <p:nvPicPr>
          <p:cNvPr id="96" name="logo%20small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457200"/>
            <a:ext cx="7391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¡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Controle</a:t>
            </a:r>
            <a:r>
              <a:rPr b="1" lang="en-US" sz="3200" spc="-1" strike="noStrike">
                <a:solidFill>
                  <a:srgbClr val="00808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Tahoma"/>
              </a:rPr>
              <a:t>el computador de cualquier estudian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logo%20small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707760" cy="343080"/>
          </a:xfrm>
          <a:prstGeom prst="rect">
            <a:avLst/>
          </a:prstGeom>
          <a:ln w="0">
            <a:noFill/>
          </a:ln>
        </p:spPr>
      </p:pic>
      <p:pic>
        <p:nvPicPr>
          <p:cNvPr id="99" name="transfer-05a" descr=""/>
          <p:cNvPicPr/>
          <p:nvPr/>
        </p:nvPicPr>
        <p:blipFill>
          <a:blip r:embed="rId2"/>
          <a:stretch/>
        </p:blipFill>
        <p:spPr>
          <a:xfrm>
            <a:off x="2019240" y="1905120"/>
            <a:ext cx="5105520" cy="4671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505320" y="3352680"/>
            <a:ext cx="2377800" cy="2301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2:28:47Z</dcterms:created>
  <dc:creator>Lizzie Cynovich</dc:creator>
  <dc:description/>
  <dc:language>en-US</dc:language>
  <cp:lastModifiedBy>Registered User</cp:lastModifiedBy>
  <dcterms:modified xsi:type="dcterms:W3CDTF">2001-09-11T18:02:36Z</dcterms:modified>
  <cp:revision>180</cp:revision>
  <dc:subject/>
  <dc:title>Perfil de ITP</dc:title>
</cp:coreProperties>
</file>